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4F54-1717-4A64-B9A9-D3224BDA7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824-5430-4076-8FFD-BFEB490EE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02C3-A7A7-4AA9-A30F-F52BCFE5A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ED36-B068-4F42-A556-87D707C3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0D08-DA2E-4CF4-9F0D-BD565CED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FFC3-9EF8-4A94-B625-A2687F61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CF18-3E80-49A0-A746-077CE215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2FDD-7001-4053-A284-EB8825AF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3353-374E-4E97-9480-B6BC9B64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5AC6-9BBA-4309-A881-94D4432F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5E29-A8F1-4490-AEDB-C68C8F7A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BF1-A9EB-4FA6-85D8-BEE4BF6B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1742-D4D2-4882-B74A-D55E504C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1139-D925-4104-9D0B-F0672100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5CC4-649E-4E93-B419-A62776ED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3E74-0D14-4ABC-90EF-ECF9AA6A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006A-D0E7-4334-A126-A367372E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6905-60AB-4456-AB77-81C25CE5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CECA-0BD4-4039-9043-989CC4B5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F536-EBDE-4C8D-9ABB-E3CAF0FE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3A83-0D55-4A75-81D4-75708085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393-C1E4-4EC6-817E-E141A94C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D98-9949-424C-973A-4F2675AD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DE3-68F4-4B37-8065-2E5610DA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23F4-AFDF-43CE-AC27-E32777ACC5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EFB9-64FA-4F9E-A89D-2C5609E14A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Resistance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s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derground units who fought Germans in occupied territori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land, USSR, Jewish Partisans in E Europe, France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Nazi German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t everyone liked the Nazi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munists, Social Democr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ite Rose-college students-spoke out against Nazi genocid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 member was in the army-saw atrocities 1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han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Nazi German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dvocated sabotage-betrayed by a college janito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l members execut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ibe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lies shocked at conditions of camps, prison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st soldiers did not understand/know what they had discover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to help the prisoner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to do with Nazi leaders captured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stac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perior, armed power of the Germans-if armies can’t stop Ger Army how can civilia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llective responsibility -1 Ger policeman shot, 120 Jews kill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solation of Jews, lack of weapons-few hiding plac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stac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recy &amp; deception of deportations-forced to send postcards-arrived safely, I am wel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Ghet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nderground newspapers, radios-news about the war &amp; HOP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cts of sabotage-Jews used as forced labor-work slowly, poorly or just blow things u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Ghet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arsaw Uprising-smuggled in weapon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Rumors of gassing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Jewish Fighting Organiz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Using cellars, rooftops-held off Ger for 28 day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Ger set fire to ghetto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314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Ghet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Vilna ghetto fighters 1942-43-United Partisan Organiz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ed by 23 yr old Abba Kovn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ook idea from Warsaw ghetto uprising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ew escaped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4533840" cy="33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9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Cam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Political organizations-raise spirits of prisoners, escape attemp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iritual Resista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chools-keep faith aliv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Documenting the Holocaus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istance in Cam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eblinka-prisoners rebelled-stole weapons set fire to camp, mass escape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00 escaped, 20 surviv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obibor-similar to Treblinka-Ger leveled camp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uschwitz-prisoners blew up 4 crematori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6T14:18:36Z</dcterms:created>
  <dc:creator>Stephen Rauch</dc:creator>
  <dc:description/>
  <dc:language>en-US</dc:language>
  <cp:lastModifiedBy>Stephen Rauch</cp:lastModifiedBy>
  <dcterms:modified xsi:type="dcterms:W3CDTF">2008-03-28T19:51:38Z</dcterms:modified>
  <cp:revision>3</cp:revision>
  <dc:subject/>
  <dc:title>Resistance</dc:title>
</cp:coreProperties>
</file>